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598-2963-43A3-917A-4A9C74BD4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8C6-7FC0-4D09-96FD-A7616E6B8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60A-5C7A-4212-9126-5BD1E781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D34-8888-409C-8BE8-33F24479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71D-0EB0-4D64-9B2A-57C8288F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E8C-31A7-4275-A350-2194CC2F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865-E1CC-4453-BA15-E145AC90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F88-A9C4-462A-93E9-6081E9A0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A53-7A04-4906-B0B3-78F6C4B2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28D-16C1-4DC9-B966-1C2380C4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B1C-87C4-4EB8-8037-2B1AEAEA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335-BF89-47DA-8AE3-E739575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445-7A6B-40FB-B4B9-FFBDA48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C98-09DB-4A39-BD61-9BEDF0B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9B04-8990-4DA4-B500-15E136BBD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ater.usgs.gov/pubs/circ/circ1156/circ1156.4D.fig1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l.gov.uk/prodserv/ana/foodres/environ/risk/food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talmanagement.net/contractor_images/sempermed/1.jpg&amp;imgrefurl=http://www.hospitalmanagement.net/contractors/disposables/sempermed/sempermed1.html&amp;usg=__-v6jYMNx4msVsHOpJ9SMlbsQBCE=&amp;h=386&amp;w=580&amp;sz=44&amp;hl=en&amp;start=14&amp;um=1&amp;tbnid=GYzoyBPG2B47nM:&amp;tbnh=89&amp;tbnw=134&amp;prev=/images%3Fq%3Dsurgical%2Bgloves%26um%3D1%26hl%3Den%26safe%3Dactive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assembly.state.ny.us/comm/Toxic/20010531/4551p5.jpg&amp;imgrefurl=http://assembly.state.ny.us/comm/Toxic/20010531/&amp;usg=__yYAYtgeQy41W3-TeQaMscJMeZb4=&amp;h=274&amp;w=200&amp;sz=11&amp;hl=en&amp;start=9&amp;um=1&amp;tbnid=heo_j8rbmhfrqM:&amp;tbnh=113&amp;tbnw=82&amp;prev=/images%3Fq%3Div%2Bbags%26um%3D1%26hl%3Den%26safe%3Dactive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avery.com/us/downloads/clipart/baby_pacifier.gif&amp;imgrefurl=http://17yearoldparent.blogspot.com/&amp;usg=__tw7oQ7fCtFlY96gTm_doj-J6XjQ=&amp;h=541&amp;w=382&amp;sz=8&amp;hl=en&amp;start=1&amp;um=1&amp;tbnid=H2e696m99kz7YM:&amp;tbnh=132&amp;tbnw=93&amp;prev=/images%3Fq%3Dpacifiers%26um%3D1%26hl%3Den%26safe%3Dactive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www.ida.liu.se/~TDDB84/pictures/rubberDuck.jpg&amp;imgrefurl=http://www.xanga.com/mik_314/597264707/item/&amp;usg=__W__jNHwPKiobIR021_s0Fy8KB8c=&amp;h=1024&amp;w=1024&amp;sz=305&amp;hl=en&amp;start=34&amp;um=1&amp;tbnid=mBJQ46Ekp4_PWM:&amp;tbnh=150&amp;tbnw=150&amp;prev=/images%3Fq%3Drubber%2Bduckie%26start%3D20%26ndsp%3D20%26um%3D1%26hl%3Den%26safe%3Dactive%26sa%3DN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100-2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Health and Toxi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657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ants are often measured in ppm or ppb or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Health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ose, duration an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industry, pesticides, food additives, medici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irc11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ox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ly indestruct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ioxin Pyramid of Sickness"/>
          <p:cNvPicPr/>
          <p:nvPr/>
        </p:nvPicPr>
        <p:blipFill>
          <a:blip r:embed="rId1"/>
          <a:stretch/>
        </p:blipFill>
        <p:spPr>
          <a:xfrm>
            <a:off x="22860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Dioxin Pyramid of Health"/>
          <p:cNvPicPr/>
          <p:nvPr/>
        </p:nvPicPr>
        <p:blipFill>
          <a:blip r:embed="rId2"/>
          <a:stretch/>
        </p:blipFill>
        <p:spPr>
          <a:xfrm>
            <a:off x="4876920" y="380988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1066680" y="167652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7238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641840" y="1523880"/>
            <a:ext cx="45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oxic manmade chem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PG"/>
          <p:cNvPicPr/>
          <p:nvPr/>
        </p:nvPicPr>
        <p:blipFill>
          <a:blip r:embed="rId1"/>
          <a:stretch/>
        </p:blipFill>
        <p:spPr>
          <a:xfrm>
            <a:off x="3857760" y="1676520"/>
            <a:ext cx="4066920" cy="4341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066680" y="1981080"/>
            <a:ext cx="2362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  skin damage, birth defects, affects entir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362320" y="624852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exposed to dioxin that leaked from a chemical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t 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the U.S. Govn’t to clear foliage in Vietnam during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gent-orange"/>
          <p:cNvPicPr/>
          <p:nvPr/>
        </p:nvPicPr>
        <p:blipFill>
          <a:blip r:embed="rId1"/>
          <a:stretch/>
        </p:blipFill>
        <p:spPr>
          <a:xfrm>
            <a:off x="380880" y="3429000"/>
            <a:ext cx="4267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range “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effects of agent or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sphenol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 disruptor (see D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CB’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Polychlorinated Bipheny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logo-cycle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fish oils, milk, eggs, fats and oils, infant formula, huma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752480"/>
            <a:ext cx="3124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serious environmental health hazards U.S. children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s in body ove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soft tissue, bones and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ored, is released very slowly through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tha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iz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511520"/>
            <a:ext cx="3533760" cy="234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4551p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1993680" cy="27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baby_pacifi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343400"/>
            <a:ext cx="16113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rubberDu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195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O and PF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hem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lots of th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ee full size image"/>
          <p:cNvPicPr/>
          <p:nvPr/>
        </p:nvPicPr>
        <p:blipFill>
          <a:blip r:embed="rId1"/>
          <a:stretch/>
        </p:blipFill>
        <p:spPr>
          <a:xfrm>
            <a:off x="6172200" y="259092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Water-inlet-with-cap--with-spray-nozzel-Spray-burst-of-steam-Irons-20483499607"/>
          <p:cNvPicPr/>
          <p:nvPr/>
        </p:nvPicPr>
        <p:blipFill>
          <a:blip r:embed="rId2"/>
          <a:stretch/>
        </p:blipFill>
        <p:spPr>
          <a:xfrm>
            <a:off x="6248520" y="4876920"/>
            <a:ext cx="18954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is likely to cause harm, it must be proven inno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health of humans and the environment is at stake, it may not be necessary to wait for scientific certainty to take protective action.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se an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amounts something may be harmless, or even necessary, in larger amounts it’s a differen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iffer in how they respond to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15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F15_12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Response Cur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to be able to predict how a % of the population will respond to a given do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s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tox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D 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people or organis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e (leth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15_13"/>
          <p:cNvPicPr/>
          <p:nvPr/>
        </p:nvPicPr>
        <p:blipFill>
          <a:blip r:embed="rId1"/>
          <a:stretch/>
        </p:blipFill>
        <p:spPr>
          <a:xfrm>
            <a:off x="0" y="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09480" y="5562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530532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D –  50 (effective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D –  50 (toxic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D –  50  (lethal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shold Dos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evel below this has no effect and level above this show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a threshold: below a certain amount is total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: there is no safe amount, even very small doses have a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F15_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ast 100 years it was added to paint, gas, water pipes, health care supplies…  (330 million tons m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ourc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cal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rgs vary in their tolerance or sensitivity to env. 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sponse curves for different species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a pollution source, often see more tolerant plants growing instead of what would normally b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s there really such a thing as too much of a good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oothpaste"/>
          <p:cNvPicPr/>
          <p:nvPr/>
        </p:nvPicPr>
        <p:blipFill>
          <a:blip r:embed="rId1"/>
          <a:stretch/>
        </p:blipFill>
        <p:spPr>
          <a:xfrm>
            <a:off x="1447920" y="2286000"/>
            <a:ext cx="6553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e deer teeth. The teeth on the left are from a deer that was grazing on vegetation laden with fluoride emitted from a local aluminum plant. The mule deer teeth on the right came from a healthy de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ule deer teeth normal and with flouride damage"/>
          <p:cNvPicPr/>
          <p:nvPr/>
        </p:nvPicPr>
        <p:blipFill>
          <a:blip r:embed="rId1"/>
          <a:stretch/>
        </p:blipFill>
        <p:spPr>
          <a:xfrm>
            <a:off x="2743200" y="4114800"/>
            <a:ext cx="39038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20 mg consumed daily is enough to cause bone problems within 10 to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of the pop. is at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a future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stimate that about 50% of bone disease may be flourid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eavy metal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Can biomagn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lobal emissions of metals to the atmosphere, 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762120" y="5791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nge of heavy metals emitted into atmosphe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 = anthropogen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The relative importance of anthropogenic sources of metals world-wid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4502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2209680" y="518148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thropogenic sources of heavy metal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95280" y="1905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al, oil,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0" y="23623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rning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95480" y="15238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-product of mining zinc, nickle,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Time trends for estimated deposition of lead and cadmium as determined in Greenland ice cor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09480"/>
            <a:ext cx="7086600" cy="404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066680" y="4952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d and cadmium found in ice core samples in Gre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d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etal industry, strengthe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o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hazard for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foods:  kidneys, liver, mussels, oy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utes of Mercury Into the Body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181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13716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way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15_6"/>
          <p:cNvPicPr/>
          <p:nvPr/>
        </p:nvPicPr>
        <p:blipFill>
          <a:blip r:embed="rId1"/>
          <a:stretch/>
        </p:blipFill>
        <p:spPr>
          <a:xfrm>
            <a:off x="609480" y="5335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6019920" y="4724280"/>
            <a:ext cx="1676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H="1" flipV="1">
            <a:off x="7010280" y="41148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867280" y="2743200"/>
            <a:ext cx="11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5029200" y="2819520"/>
            <a:ext cx="8380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715000" y="121932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thyl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2:00:51Z</dcterms:created>
  <dc:creator>tosborne</dc:creator>
  <dc:description/>
  <dc:language>en-US</dc:language>
  <cp:lastModifiedBy>infosys</cp:lastModifiedBy>
  <cp:lastPrinted>2014-02-05T17:27:29Z</cp:lastPrinted>
  <dcterms:modified xsi:type="dcterms:W3CDTF">2014-02-05T18:09:17Z</dcterms:modified>
  <cp:revision>40</cp:revision>
  <dc:subject/>
  <dc:title>Environmental Health and Toxicology</dc:title>
</cp:coreProperties>
</file>